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EC5-CFD1-42EE-8DA9-5833C6BD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F2C-16AE-495B-B4DD-C0C33D8C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9CE0E-D4BC-4B83-BD55-B4B5754E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0A203-0ACD-4F1F-A519-AE4A2172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18956-DFE5-4EEC-BE9A-BBE1264B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63C5E-1CF5-49B9-BAA1-F06A3EAC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4DAAC-3A50-4D74-9968-BE913223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D22BC-6A4D-4DD0-9B49-E32E645C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19423-0E4A-4CF4-9314-286F15EE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524B5-D80E-4395-8D43-E0069D72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B73F2-B360-4D77-90C5-48FCDCD8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8E87F-6653-460C-A937-5821E267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0EE-EACE-4239-B1AA-8D3E69B1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64A9C-A9F8-4EFD-896A-EAAF6296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7FD97-05EA-4742-8EA9-04A0D750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A1E50-29C6-4336-AEE5-34694347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4CCF7-0722-4677-8DDE-F82FA022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8F44B-9921-430C-B019-0C475D2A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5C77E-DA2F-493C-A853-164CBA28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49E83-019C-4873-BBC3-E4FC417B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F1FC3-86AF-4E95-AEAC-06A3B958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64364-8AA3-486A-83DA-D65BEA8E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37A7D-B847-49CF-99A0-4011384F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722-0421-4B8C-8EF1-DB736CC1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CBA2E-7B2D-41CD-8B1B-B4DA4A17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EF3CE-69CF-40C5-944F-722F5A41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F6C41-35F0-4E46-A277-BD799B94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99D06-6B9A-4717-8D94-C9BA8A47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45148-02A4-4433-9C2F-5B9F9211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5FD99-4252-4C91-A898-F0989E62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50C1F-806E-4050-927B-2C1F2929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6B884-6B6D-47D7-A3A2-47D6E81F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38639-529E-4BB1-9204-C8824E63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84E9E-80CA-48C5-AE47-28BA9491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67AA-6A83-4345-AB07-27817C61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3D386-5ED8-4729-8B63-B638E5FE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AF6F6-2AA1-4E2F-B737-3EBA5695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E518D-FE12-4873-A07F-E0DED711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D345E-3CA3-4DA9-AA68-CE0127B6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A29BD-2121-4683-B1EB-A1202E88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7D008-6CED-4B78-8712-5EE7CB13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4F679-F9C9-410E-984C-77E279B4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43E9D-DE6A-4371-907B-67E8467E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B0F5C-D2DC-4149-8930-52360F15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2CE07-BEC9-4FD2-9EE3-48A97B85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F4C8-20A4-4DDE-BC55-B7F9108D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733E3-FB03-486C-AA65-6E025451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ED060-8C12-453F-AD82-B64FFDC8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7E318-45C2-48BF-9D8E-3F67858E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8ACBA-DB98-447E-B9C8-0603B68C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10304-9DE7-4A95-8AFF-44F97665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A0316-D73E-467A-8E49-6D738323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DD6F3-03FA-4DBD-96D9-78C9EB27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4095D-D6EF-4114-AEDD-33D3C05B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90104F-4215-47CE-8C50-B56DA5F1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8CFBE-B8BE-4CE6-A3B3-3E436999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807C-10AC-4448-A77E-D9156F18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678A8-3626-42B0-85B2-C5AF65EB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E35AA0-9D3A-482B-BD09-3C985AA0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CC6CE-A49A-4596-BC2E-E8503852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9DEF2-1007-47C6-8A37-562ADC04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76578-1118-46BE-93EF-4F57FEC3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8A3E9-D978-403B-81FE-E52BB84F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65574-52DA-43B6-BE62-5B7BAEBB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B67F4-5D9B-4B04-9288-814A0373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BEBAF-2D45-4E7F-81C6-C7673957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5DD19-2116-4E08-B589-A0F1D4DB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689A-4715-47B2-A070-E1B727BB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84D284-53AC-46AA-BABC-23EE7469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CD5495-101B-4ABF-9DA4-BDCC3938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23B8EE-C0F4-4DD9-8B66-E59AB4EA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F0653-E648-4D71-A3C7-414A4A4F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D3FA9E-487F-4D55-B80B-703798FB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C2AD02-9CFB-49B1-AADA-568C5CDB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5730F1-71BB-404D-A8BB-93A5CA18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2427FC-2557-44F3-8091-3D7FCD90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D44737-25A8-46C1-9003-06CE15A7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F7EB-A4AD-49D1-A429-1385BA02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D4D4-DD4E-4562-9AA1-8BAFC738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444E-E626-4186-A64F-097280E5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BB5-6722-4D3F-ACB5-5FBD4338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303C-861F-497C-8493-D56DADD8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4C85-F43D-483B-8E8A-3E7E6ADF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8B6D-593E-47A4-BD56-85B7F785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09E3-8BFA-49FF-9DF5-ECF51AF0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C52E-5B93-4864-B9FF-73088D9C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104E0-6CF7-4CCD-AC87-10812488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12A23-775D-4291-A3C7-A0003766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50B02-854D-409F-A287-A46CEC94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950FE-F643-4654-9971-13B999AE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B1A08-462F-418C-A44E-E9904618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782-3BFE-410D-9CE3-D619A0B3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541EE-3875-464E-8C7B-F25C5408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0ACEF-3F98-4E8C-ABFC-0F31C61D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08F4F-5688-45F1-9442-420F135E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6C325-8AD8-430B-929F-96916370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D2360-4D4B-4CA9-970B-D0628D8D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5564-6050-447F-BCBF-7D00D3CC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DAEBA-D3E2-46F2-886D-EEE6A706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484EB-05F6-4AB9-8271-1845E41C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2533B-D0D2-4F59-A370-9C26235B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5573A-455E-4F78-9935-B5A9B0DF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C2A-90ED-4CF6-860F-04B04825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17302-2733-42B8-B30A-288CCE5D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D27B4-02EE-4389-8EF9-C6B97007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72F68-13F2-4AE8-A041-E66B05BE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B9DA0-DE15-42DF-A270-4EA51A8D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164DA-F97D-49F5-88F3-7D4B1372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29BBA-48E7-49C8-B335-2557B2CF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96B46-6690-4F5C-B9EC-95F34F38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797AE-97BE-412D-911F-CFFCBBFE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CC08F-85E1-4FBE-8BC5-74676131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D2165-3DA4-4EA4-8E71-D85CB5DD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C294-ABFD-4967-BEFA-C632A525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8C560-61C1-4C1F-A2B7-F09C5BFF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2C928-4BE1-40CC-BD33-92D5524D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65935-0147-48D9-A498-2D816999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44E34-F0A9-4D21-AC51-009580BF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C57A3-DFFE-4268-9CD7-2A6641B5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75FC9-7E8F-4A42-8DD3-083E4473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1E33F-EE72-464B-B9CA-8E3E0A0D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90882-867C-43A4-8B85-5F999ED6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B77EF-4FD5-4006-9190-7FAAF83C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B1968-5F28-4DAD-9CD8-896BAB3A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8E9-74AA-4D47-AA5D-9085270A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8A7BC-94DE-432E-BE29-54B0E3AF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16255-ADCB-43FF-9718-E1811979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CB5D5-62BE-4399-9E4A-776E92BA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56ECC-5B6C-4631-9FAE-0A61ACD8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A7303-DD0D-454E-A4E1-5322E196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F0677-63D8-4CCE-BD71-49BD3E34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263B5-069E-4F96-9BDC-1BA5C2BD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07AC7-6A20-42ED-8B4C-CCF53FDA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7CEE5-110D-4023-9BDB-F262F8D8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C4D6D-E5F4-4AB0-8CD8-E9679AAA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67F-816A-4700-A1E3-0041BCE2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3CF7C-A9F6-4574-9548-AF27BF0C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3D6C4-D67B-4D1A-ADFC-23E29922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8D8B9-299F-4F23-9053-4BD633A2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CEC71-C563-43B3-BCDC-67248789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35885-009C-4871-9240-B9A86A87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579AE-3BA5-40F4-BB33-17BEA809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F88BE-A488-4C5E-AE0A-4B36D313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B328E-A033-4C91-92D1-CA9D9FA5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AF2C7-489F-4523-BF87-21F4B6F4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C98A1-9380-4AEF-B681-FBC708C3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E98-C134-4BF7-819F-9ED663CA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8530B-33E1-431E-AD44-F1CD1B9E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EE634-99A4-4A15-B431-9704258B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F375E-944B-4EEF-B784-3278E92D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E6D19-8603-4841-AE3A-997E8713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D67CE-F1DD-4533-97E9-EAEFC467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2CAD5-D684-4EAC-A79C-F597F3F4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B3955-BAC9-4AFC-9303-2D8DE499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5CE27-7F3A-447F-A895-6986C142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B23DF-90B6-4CE5-9F55-9DE4244D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57F59-9F84-43C2-A9DF-BE3D6E84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3AE-E887-4579-A378-AD45CFB8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8723E-B8D0-47C8-A1FF-27F5862A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D1B62-124A-4F05-857F-E232EFC4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12EA1-27C0-4FFB-BD20-B7FBD030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A615D-7C3C-48EB-AF00-36E1E37D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E7056-F10A-48DE-8EC7-9A0B78AE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5F6BD-F9A6-4A4A-9083-CA19665E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0B35A-87A8-486C-B019-64786249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245DB-BD09-4049-883A-210CCD85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1F19C-AAA5-4FD0-8A04-69CA155F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D9454-772B-4C73-B492-1608ADF4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2DC6-A23C-4D76-9C08-38B4EFC7E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84ED-36D4-4768-8D02-8F6B13EBB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CD35-933F-4BE4-82E3-1C1C3415C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54E1-6F3F-44B4-8DE0-4091E3EA3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36F7-7D1F-4691-82B0-20635D548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8033-125E-4187-9B69-1FA173254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7159-70E1-4DDD-BC3C-BB69F8548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9FBA-91BA-4AAC-B1BD-4F6D2392A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B286-AD8C-4223-B900-5425A519B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3141-4CE0-407A-89C4-35D746876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8FDA-5A02-4586-BB08-0EAF4B13E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8230-7188-4491-B27A-7D2639B11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E1DC-B70E-4C0B-A620-192E1B568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3E40-5360-4157-A018-D1D6B9362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5"/>
          <p:cNvSpPr/>
          <p:nvPr/>
        </p:nvSpPr>
        <p:spPr>
          <a:xfrm>
            <a:off x="0" y="83808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Propósito 42b: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Cómo repasamos para el </a:t>
            </a: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Quiz 1: Capitulo 5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b050"/>
                </a:solidFill>
                <a:latin typeface="Arial"/>
              </a:rPr>
              <a:t>L.O: To review soccer vocabul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omplete with any appropriate vocabulary wor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uando juegan (al) fútbol, los jugadores no pueden tocar el balón con _____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ara marcar un tanto el balón tiene que entrar en la _______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uando empieza el segundo ___________, los jugadores vuelven al tant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Juegan (al) futbol en el _______ de futbo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El jugador ________ un tanto cuando ________ un go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Si el tanto no queda ___________, un equipo gana el partido y el otro equipo ____________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-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 llamo____________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   Clase 702</a:t>
            </a:r>
            <a:br>
              <a:rPr sz="3200"/>
            </a:b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a fecha es el 4 de febrero del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TOMAR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Arial"/>
              </a:rPr>
              <a:t>Quiz 1: Cap.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3:46:55Z</dcterms:created>
  <dc:creator>Helen Zumaeta</dc:creator>
  <dc:description/>
  <dc:language>en-US</dc:language>
  <cp:lastModifiedBy>Helen Zumaeta</cp:lastModifiedBy>
  <cp:lastPrinted>2016-02-01T17:05:15Z</cp:lastPrinted>
  <dcterms:modified xsi:type="dcterms:W3CDTF">2016-02-04T23:02:27Z</dcterms:modified>
  <cp:revision>33</cp:revision>
  <dc:subject/>
  <dc:title>Me llamo____________  Clase 7 IL La fecha es el 4 de noviembre del 2010</dc:title>
</cp:coreProperties>
</file>